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AD9D-A58F-4A3E-9393-41820E29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772-3B0B-45A7-9B3E-21CCDF61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424-EDBD-476E-AFCB-14E8BDA7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50A2-41FF-4180-BB2C-7074585F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199-C8A2-4EDB-B084-A0E2CA77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D291-2032-4A8C-B940-BA00D0B8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36C-0BCB-4649-A1DD-3CA377B1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B43-FA38-40F4-BD3A-4C883D5EA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F7B-7B12-41B9-B85C-433F6F74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4D3-386B-46A8-B890-48B31093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BAFD-67A4-4C2D-BC4E-5F434A48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3EA-371A-45FA-A479-DF1A5B1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BB65-F7CF-4BC4-A348-8BF15BFF0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ber Gesundhe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dema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viele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 tu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trinke viele wasser. Jeden Tag trin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wasser. Wasser ist sehr gut fü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ine Gesundh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eimal in die Woche, Ich tanze g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nzen macht sehr spas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ch esse Obst weil es schmec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hr gut. Ich esse Erdbe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d Apfel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43800" y="1447920"/>
            <a:ext cx="130644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489040" cy="1903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rcRect l="16213" t="5990" r="18923" b="0"/>
          <a:stretch/>
        </p:blipFill>
        <p:spPr>
          <a:xfrm>
            <a:off x="7772400" y="3505320"/>
            <a:ext cx="9144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ist sehr ungesu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rauchst? Es ist sehr schade dass du rauchst. Rauchen ist sehr undgesund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Lun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411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ist sehr gesu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isst gern G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se? Ich finde es toll dass du isst Brokkoli and Möhren. Gemüse nicht Fett ha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2251080" cy="234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23241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darf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tanze ger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ahre mit dem R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 Bataille. Ich bin fit hal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n ich tanze jeden ta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2819160" cy="2683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97640" y="1143000"/>
            <a:ext cx="26463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edf6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darf nich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Alkohol trinken weil es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. Ich bin nicht 21 Jare 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153040" y="3400560"/>
            <a:ext cx="1271520" cy="1827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352680"/>
            <a:ext cx="2133720" cy="198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029200" y="3657600"/>
            <a:ext cx="152388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19:11Z</dcterms:created>
  <dc:creator>CUSD220</dc:creator>
  <dc:description/>
  <dc:language>en-US</dc:language>
  <cp:lastModifiedBy>CUSD220</cp:lastModifiedBy>
  <dcterms:modified xsi:type="dcterms:W3CDTF">2012-02-24T18:20:45Z</dcterms:modified>
  <cp:revision>3</cp:revision>
  <dc:subject/>
  <dc:title>Alles über Gesundheit!</dc:title>
</cp:coreProperties>
</file>